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47453-04ED-4EFB-9FD0-E7047FD140A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45298-BC13-40CF-804F-CC69437D414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FBED9-C293-4307-9285-E1408AE083E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F76F3-1EDD-4F3B-8FE5-ACDBBBA2FFE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67003-B00E-4D74-AC56-7EC405CC258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DB2-1275-49E9-B4BA-71CBA0DA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83E-075F-4286-9C5B-4F0ECBE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CD7-09C3-4C0D-8A38-20AAC84F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1D5-1AF0-42C8-8256-050BE828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549-7CF5-4DF8-BEBB-F90041FA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395-2122-4BB6-8AF2-46867077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174-FB25-4BBF-8AEA-7BB11057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56B-8277-4C0D-A24C-68609DC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C39-BBAC-4048-9388-D92EE88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53D-1D67-4A1E-A2A9-149F943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44D-8E94-41C0-A0E8-B2CD973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BDE-17EB-4F53-9599-2DF16C6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E19E0-2B1A-4A0F-A152-2CC379F63D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68760" y="274680"/>
            <a:ext cx="3619440" cy="2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Lehrplannavigator NRW Textilgestaltung Realschule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Fingerstrick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7f7f7f"/>
                </a:solidFill>
                <a:latin typeface="Calibri"/>
              </a:rPr>
              <a:t>Eine kurze Anleitung mit Bilde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Bild 8" descr="DSC_0004.JPG"/>
          <p:cNvPicPr/>
          <p:nvPr/>
        </p:nvPicPr>
        <p:blipFill>
          <a:blip r:embed="rId1"/>
          <a:stretch/>
        </p:blipFill>
        <p:spPr>
          <a:xfrm>
            <a:off x="2768760" y="2643120"/>
            <a:ext cx="42415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9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Wiederhole Schritt 7 und 8 bis du meinst, dass deine Schlange lang genug i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0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Nach etwa 10 Reihen kannst du die Schlaufe vom Daumen lösen. Ziehe daran und bringe deine Strickschlange in 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Bildplatzhalter 2" descr="DSC_001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ertig? Lang genug? 1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7f7f7f"/>
                </a:solidFill>
                <a:latin typeface="Calibri"/>
              </a:rPr>
              <a:t>Schneide deinen Faden nach etwa 20 cm ab (Achtung: nicht zu kurz!) und ziehe ihn durch die Schlaufen an deinen Fingern. Nun kannst du deine Strickschlange von der Hand nehm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Bildplatzhalter 3" descr="DSC_000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Bildplatzhalter 9" descr="DSC_000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ilde eine Schlau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Lege die Schlaufe um deinen Dau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Bildplatzhalter 2" descr="DSC_000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3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Lege das lange Ende des Fadens vorne am Zeigefinger herum um deine Fin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Bildplatzhalter 2" descr="DSC_000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4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en Faden um den kleinen Finger und die anderen Finger heru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Bildplatzhalter 3" descr="DSC_0008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5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Lege dir das lange Fadenende oberhalb der Garnschlingen entlang diner Handinnenfläche. Das lange Ende ist jetzt am kleinen Fing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Bildplatzhalter 3" descr="DSC_0009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6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Bildplatzhalter 3" descr="DSC_0010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7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ir den Faden oberhalb deiner Handfläche locker über die Schlauf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Bildplatzhalter 2" descr="DSC_0011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8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6:26:50Z</dcterms:created>
  <dc:creator>Patricia</dc:creator>
  <dc:description/>
  <dc:language>en-US</dc:language>
  <cp:lastModifiedBy>Sohnius, Axel</cp:lastModifiedBy>
  <cp:lastPrinted>2013-06-05T12:03:37Z</cp:lastPrinted>
  <dcterms:modified xsi:type="dcterms:W3CDTF">2013-06-06T11:32:26Z</dcterms:modified>
  <cp:revision>13</cp:revision>
  <dc:subject/>
  <dc:title>PowerPoint-Präsentation</dc:title>
</cp:coreProperties>
</file>